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B54-942D-4FA3-9577-FBF8AB6D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EE3-B973-421A-866C-CBE88F96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037-5E0E-4F41-AB42-1CCD8011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132-ABBF-4711-8722-77EFBDB4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43D-9350-4D92-B7F4-0B7B99FE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6B3-E80A-4D50-986A-F3FB19D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AC6-5755-4D05-A42A-489ADFBC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781-D81F-45D5-956C-5D6C527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126-2B76-4C14-AEF4-60970B3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48C-DE82-43E6-BEA9-A47B896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D64-634A-423E-8157-F972D72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5AF-C672-4198-9008-6D73161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4D6B-788E-4A4B-A7A9-55B55EBBB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8:  Sol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≥ 6 or 5 + x  ≤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038480" y="91440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91440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3 or x &lt;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1 or x &lt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≥ 2 or x ≤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3 or x ≥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:  Solve |x - 3| ≤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038480" y="106668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06668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7 or x ≤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 ≤ x ≤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10:  Grap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+ 2y ≥ 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3809880" y="144792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44792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1981080" cy="1942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 flipV="1">
            <a:off x="1142640" y="1905120"/>
            <a:ext cx="1143000" cy="1752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3996600">
            <a:off x="1181160" y="1866600"/>
            <a:ext cx="2133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ution Half-Pla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990720" y="3809880"/>
            <a:ext cx="1981080" cy="19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H="1" flipV="1">
            <a:off x="1066320" y="3962520"/>
            <a:ext cx="1143000" cy="1752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4098000">
            <a:off x="1180800" y="407664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ution Half-Pla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-Test is 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 working on pg. 545 #1 – 25 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pre-test consists of 10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need a piece of paper, pencil and calc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work should be done on your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have your answer, ring in with your clic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s from this pre-test will be used to help you prepare for your Chapter 12 test, which will be on Thursday, April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se results to be valid, please try your b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#1:  Name some numbers that make the inequality x ≤ -4 tr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457880" y="1523880"/>
          <a:ext cx="4686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57880" y="1523880"/>
                    <a:ext cx="468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1, 2, 3, 4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-3, -2, -1, 0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9, 10, 11, 12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-4, -5, -6, -7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:  Graph x &gt;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TPChart"/>
          <p:cNvGraphicFramePr/>
          <p:nvPr/>
        </p:nvGraphicFramePr>
        <p:xfrm>
          <a:off x="4648320" y="1828800"/>
          <a:ext cx="4686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828800"/>
                    <a:ext cx="468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0400" y="1676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7524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90720" y="2743200"/>
            <a:ext cx="4054320" cy="50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00400" y="2743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819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90720" y="3962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04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0384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990720" y="5105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00400" y="5105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90720" y="51814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3:  Write an inequality for the following probl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TPChart"/>
          <p:cNvGraphicFramePr/>
          <p:nvPr/>
        </p:nvGraphicFramePr>
        <p:xfrm>
          <a:off x="4038480" y="175248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75248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3520" y="1523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most airlines, a piece of luggage cannot weigh over 50 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&gt;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&lt;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≥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≤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:  Solve x + 4 &gt;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3809880" y="129528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29528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5:  Solve -10x ≤ 25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3809880" y="137160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37160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≤ 35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≥ -2.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≤ -2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≥ 2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6:  Solve 12 + 2x &lt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3505320" y="609480"/>
          <a:ext cx="4686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609480"/>
                    <a:ext cx="468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:  Graph -3 &lt; x ≤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5105520" y="1219320"/>
          <a:ext cx="3681360" cy="40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219320"/>
                    <a:ext cx="368136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38080" y="1600200"/>
            <a:ext cx="4054680" cy="506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2880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1600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16765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914400" y="2743200"/>
            <a:ext cx="4054320" cy="50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2743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914400" y="28195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914400" y="3886200"/>
            <a:ext cx="4054320" cy="506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38480" y="3886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3962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38080" y="39625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990720" y="5105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5105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51814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7:30:04Z</dcterms:created>
  <dc:creator>admin</dc:creator>
  <dc:description/>
  <dc:language>en-US</dc:language>
  <cp:lastModifiedBy>Administrator</cp:lastModifiedBy>
  <dcterms:modified xsi:type="dcterms:W3CDTF">2007-07-17T17:43:04Z</dcterms:modified>
  <cp:revision>11</cp:revision>
  <dc:subject/>
  <dc:title>Chapter 12</dc:title>
</cp:coreProperties>
</file>